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0.jpeg" ContentType="image/jpeg"/>
  <Override PartName="/ppt/media/image11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comments/comment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1b25" initials="1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<Relationship Id="rId15" Type="http://schemas.openxmlformats.org/officeDocument/2006/relationships/commentAuthors" Target="commentAuthors.xml"/>
</Relationships>
</file>

<file path=ppt/comments/comment8.xml><?xml version="1.0" encoding="utf-8"?>
<p:cmLst xmlns:p="http://schemas.openxmlformats.org/presentationml/2006/main">
  <p:cm authorId="0" dt="2015-03-30T14:10:55.311000000" idx="1">
    <p:pos x="262" y="1239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1C05-AD7A-47DF-8B82-00317297C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794C-7E7E-492F-B740-69937F7A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E6B6-75C0-4BAF-80E1-2066322DD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86BF-B870-4722-AEB7-426B2DE1D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DE67-1254-4270-A305-76C809CAA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CAC5-431C-4B62-9636-B73E262E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C47C-55B8-4ACC-BDEF-FE84A4B0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3579-412C-4808-B974-1192D379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B65D-29CE-4EB4-A3AB-34D1C252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D947-D89E-4226-82E6-EB755667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6399-383A-477D-88EC-77ABC1CE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1C82-4EE9-4C06-AD3D-EF6C8C77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ED50-90ED-4AD5-A884-A3D33A8B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6893-5E50-48B4-B87A-8FB8D9FA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6411-46E8-49FE-84ED-FF65485D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BED1-0DAD-4A33-BEC3-4D6596E18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D4F8-8148-44FD-A0D5-683FADA6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875C4-A171-4540-BD54-3806CAF68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58FBA-C64B-4184-B591-5FB37C81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E6C51-465F-4A66-BFC2-84D097E3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850A4-C434-43A1-BF04-F21627AD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00219-F6A0-49FC-9B9A-6CA772DD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30BF-1178-409E-99AF-FC6D662E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44A2F-2358-4150-879C-43949994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B8585-3EB8-45EA-8B55-D60E416B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9A3EF-9D61-40AC-940C-E0CB0059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34421-C54A-419A-A124-522986F4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065E5-1F29-4295-A840-9539FA92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E0EE7-95CB-49D3-AC6D-0538729C0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530F0-7FB1-496C-82F1-229C5C0A0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FF382-3E71-493A-B9BA-611B85DB1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D81EE-0EC9-46B5-91D1-B55255B9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7AF78-D514-4E6D-A5C2-B04FAF9C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0804-ACC7-4F5E-85D2-9DAEF046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875BA-7487-450F-9580-EF1271A5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BF176-AAB4-4054-A34E-C7B00FF6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86F28-ACA6-4A29-943D-F4A7CAF2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DAED2-1E6E-465B-A6C0-EE288FC9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ABB06-C60E-40F1-A790-92F17512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4ACC8-EBFB-4ED1-A8D2-9169B55E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CAF0B-210B-4F36-B175-3CB77740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C51F2-9E13-4636-9C73-EF5F0337E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51932-5C57-4B35-8EC6-9CDBE09F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5771-6143-4B97-B8BF-2D978BEE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B877-2B1B-4B63-8007-72C52240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66C9-3B24-4E7F-9E76-DD901D8D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C06A-233F-4643-8C05-374E8DB2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FBB0-B8E8-4BC3-9F98-018CE586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F2E9-6BA7-4AA6-81DB-B091D60490AC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0007-29F5-4008-8D47-2C2C95E295D7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0D57-887C-4C2F-ADC3-29C88CD07AD9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9531-252D-4A94-A566-73999DD7CEB9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bing.com/videos/search?q=bats+for+kids&amp;form=HDRSC3&amp;first=1#view=detail&amp;mid=5EC40DD39F694864077C5EC40DD39F694864077C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th?id=HN"/>
          <p:cNvPicPr/>
          <p:nvPr/>
        </p:nvPicPr>
        <p:blipFill>
          <a:blip r:embed="rId1"/>
          <a:stretch/>
        </p:blipFill>
        <p:spPr>
          <a:xfrm>
            <a:off x="395280" y="189000"/>
            <a:ext cx="8113680" cy="6346800"/>
          </a:xfrm>
          <a:prstGeom prst="rect">
            <a:avLst/>
          </a:prstGeom>
          <a:ln w="0">
            <a:noFill/>
          </a:ln>
        </p:spPr>
      </p:pic>
      <p:pic>
        <p:nvPicPr>
          <p:cNvPr id="196" name="Rectangle 6" descr=""/>
          <p:cNvPicPr/>
          <p:nvPr/>
        </p:nvPicPr>
        <p:blipFill>
          <a:blip r:embed="rId2"/>
          <a:stretch/>
        </p:blipFill>
        <p:spPr>
          <a:xfrm>
            <a:off x="536400" y="1371600"/>
            <a:ext cx="785196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4643280" y="1220760"/>
            <a:ext cx="3726000" cy="5373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ff0000"/>
                </a:solidFill>
                <a:latin typeface="Calibri"/>
              </a:rPr>
              <a:t>Different kinds of b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8360" y="1412640"/>
            <a:ext cx="3672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re are over 900 different species of ba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Bats make up one fifth of the world's mamma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10920" y="333360"/>
            <a:ext cx="8002440" cy="122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600" spc="-1" strike="noStrike">
                <a:solidFill>
                  <a:srgbClr val="ff0000"/>
                </a:solidFill>
                <a:latin typeface="Constantia"/>
              </a:rPr>
              <a:t>Baby Bats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Content Placeholder 6" descr=""/>
          <p:cNvPicPr/>
          <p:nvPr/>
        </p:nvPicPr>
        <p:blipFill>
          <a:blip r:embed="rId1"/>
          <a:stretch/>
        </p:blipFill>
        <p:spPr>
          <a:xfrm>
            <a:off x="2268360" y="0"/>
            <a:ext cx="4607280" cy="68612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20520" y="2060640"/>
            <a:ext cx="9144000" cy="3951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Constantia"/>
              </a:rPr>
              <a:t>During spring, bats return from migration or awaken from hibernation and the females begin having baby bats called pup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Constantia"/>
              </a:rPr>
              <a:t>Bat pups are tiny when born, but grow up fast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Content Placeholder 3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147160" cy="146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70c0"/>
                </a:solidFill>
                <a:latin typeface="Constantia"/>
              </a:rPr>
              <a:t>Egyptian Fruit Bat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00b0f0"/>
                </a:solidFill>
                <a:latin typeface="Calibri"/>
              </a:rPr>
              <a:t>Bats Bats Ba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771640" y="1600200"/>
            <a:ext cx="3672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Preview not availableBats, Bats, Batschildren's song "Bats, Bats, Bats" sung by Rosie Emery featuring a variety of photos of bats128,000+ views·18/10/2009YouTube/Susan McCla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04617b"/>
                </a:solidFill>
                <a:latin typeface="Calibri"/>
              </a:rPr>
              <a:t>Bat Wing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79280" y="1699920"/>
            <a:ext cx="878544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Bat wings are made of two thin layers of skin stretched over the bat's arm and fingers.  Bats have a thumb and four fingers, just like peop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1" descr="http://api.ning.com/files/jsbdx1M0bPtamia10xc6455PuIkuvvm*eDZw7qUWnEN*pkCC9kbCZ*w01rFe4Uhk1sPr7ycz-7b6NETHTlx0oeabT0Vbze9b/babybats.jpg?width=634&amp;height=399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2124000" y="549360"/>
            <a:ext cx="46548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ffc000"/>
                </a:solidFill>
                <a:latin typeface="Constantia"/>
              </a:rPr>
              <a:t>I hope you like Bats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20:39:24Z</dcterms:created>
  <dc:creator>1b25</dc:creator>
  <dc:description/>
  <dc:language>en-US</dc:language>
  <cp:lastModifiedBy>1b25</cp:lastModifiedBy>
  <dcterms:modified xsi:type="dcterms:W3CDTF">2015-03-30T01:17:36Z</dcterms:modified>
  <cp:revision>21</cp:revision>
  <dc:subject/>
  <dc:title>Bats</dc:title>
</cp:coreProperties>
</file>